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9EB2-B199-48FB-9512-268801DF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A0B2-219C-4DF2-8821-42D21852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A3B6-B2C4-4781-A9C8-1ECA48CC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2E3A-33BA-4D9E-B9E6-6D07AC1A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3359-D6B6-4BB8-8612-C98F02DD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1D59-7831-4510-9998-CAD7A50C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8757-3B0B-4A8A-8A5F-A9D1EA31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9C0A-628D-4795-9873-0C4B04E9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7D49-AB91-4CB2-9D29-53470703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917-A998-4F78-8249-E23CE1C6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E375-4167-4703-B3B1-FE2E2708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7E73-4963-4976-82B4-0E89D41E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E6B0-6D7F-4B33-99A4-D2472592BE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220040" y="1905120"/>
            <a:ext cx="455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333399"/>
                </a:solidFill>
                <a:latin typeface="Arial"/>
              </a:rPr>
              <a:t>Лесные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333399"/>
                </a:solidFill>
                <a:latin typeface="Arial"/>
              </a:rPr>
              <a:t>птицы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D:\ira\презентации\большая.jpg"/>
          <p:cNvPicPr/>
          <p:nvPr/>
        </p:nvPicPr>
        <p:blipFill>
          <a:blip r:embed="rId1"/>
          <a:stretch/>
        </p:blipFill>
        <p:spPr>
          <a:xfrm>
            <a:off x="500040" y="5024520"/>
            <a:ext cx="2394000" cy="1812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D:\ira\презентации\московка.jpg"/>
          <p:cNvPicPr/>
          <p:nvPr/>
        </p:nvPicPr>
        <p:blipFill>
          <a:blip r:embed="rId2"/>
          <a:stretch/>
        </p:blipFill>
        <p:spPr>
          <a:xfrm>
            <a:off x="4429080" y="380880"/>
            <a:ext cx="178596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D:\ira\презентации\клест.jpg"/>
          <p:cNvPicPr/>
          <p:nvPr/>
        </p:nvPicPr>
        <p:blipFill>
          <a:blip r:embed="rId3"/>
          <a:stretch/>
        </p:blipFill>
        <p:spPr>
          <a:xfrm>
            <a:off x="3929040" y="6810480"/>
            <a:ext cx="24876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28600" y="6553080"/>
            <a:ext cx="6400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обыкновенного скворца оперение плотное, черное с фиолетовым оттенком и многочисленным беловатым крапом. Ноги буроватые, клюв черный. По земле пере-двигается шагами, а не прыгает. Обыкновенный скворец - птица перелетная, однако в теплые зимы остается зи-мовать в местах гнездования. Лесная птица, хотя часто гнездится в искусственных дуплянках на окраине городов и сельских  местностей. Его считают одним из первых  вестников весны. Уже в марте можно услышать резкий скрипящий крик скворцов, их песню, состоящую из подражаний различным звукам и голосам других пти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22000" y="271440"/>
            <a:ext cx="573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ыкновенный сквор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D:\ira\презентации\скворец.jpg"/>
          <p:cNvPicPr/>
          <p:nvPr/>
        </p:nvPicPr>
        <p:blipFill>
          <a:blip r:embed="rId1"/>
          <a:stretch/>
        </p:blipFill>
        <p:spPr>
          <a:xfrm>
            <a:off x="1676520" y="1295280"/>
            <a:ext cx="3657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80880" y="7238880"/>
            <a:ext cx="6096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вольно крупная птица, величиной с домашню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ицу (масса самца - до 1,5 кг,  самки - до 900 г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ение самца черное, крайние перья хвоста лирообразно загнутые. Над глазом ярко-красная бровь. Тетерка буровато-рыжая с черным рисунком (рябью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итает в смешанных и хвойных лесах с вырубками и поля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D:\ira\презентации\тетерев.jpg"/>
          <p:cNvPicPr/>
          <p:nvPr/>
        </p:nvPicPr>
        <p:blipFill>
          <a:blip r:embed="rId1"/>
          <a:stretch/>
        </p:blipFill>
        <p:spPr>
          <a:xfrm>
            <a:off x="838080" y="1066680"/>
            <a:ext cx="5326200" cy="6056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2590920" y="457200"/>
            <a:ext cx="172872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етере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:\ira\презентации\рябчик.jpg"/>
          <p:cNvPicPr/>
          <p:nvPr/>
        </p:nvPicPr>
        <p:blipFill>
          <a:blip r:embed="rId1"/>
          <a:stretch/>
        </p:blipFill>
        <p:spPr>
          <a:xfrm>
            <a:off x="1447920" y="1066680"/>
            <a:ext cx="4092480" cy="5486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2821680" y="38088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яб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0880" y="6934320"/>
            <a:ext cx="6172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ом примерно с воро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е название получил благодаря рябой окрас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у него серая с поперечными черточками. У сам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ное пятно на горле и хорошо выраженный хохол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ылья короткие и тупые.  Взлетает рябчик с шумом, летает на небольшие расстоя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жатся рябчики всегда парами в еловых и смешанных лесах. Птица оседлая, но местами совершает короткие кормовые коче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:\ira\презентации\свиристель.jpg"/>
          <p:cNvPicPr/>
          <p:nvPr/>
        </p:nvPicPr>
        <p:blipFill>
          <a:blip r:embed="rId1"/>
          <a:stretch/>
        </p:blipFill>
        <p:spPr>
          <a:xfrm>
            <a:off x="1219320" y="838080"/>
            <a:ext cx="4084560" cy="58518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299520" y="228600"/>
            <a:ext cx="65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ыкновенный свирис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28600" y="6781680"/>
            <a:ext cx="64008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свиристель размером со скворца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й тон окраски оперения пепельно-серый с красновато-бурым оттенком, более темным на верхней стороне тела. Перья на голове удлинены и образуют хохолок,  который птица то опускает и прижимает к затылку, то поднимает. Лоб коричнево-бурый, а на щеках широкие черные полосы. Крылья и хвост черные, с ярко-желтыми полосами. Самки окрашены более туск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 свиристель обитает в хвойных и смешанных лес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457200" y="701028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озд рябинник - один из крупных дроз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отличается от других видов окраскою опере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на у него темно-серая, а нижняя часть тела пестрая; пестрины сосредоточены преимущественно на груди и бок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ка несколько меньше по размеру и имеет более тусклую окраску опер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адлежит к группе перелетных пти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D:\ira\презентации\дрозд рябник.jpg"/>
          <p:cNvPicPr/>
          <p:nvPr/>
        </p:nvPicPr>
        <p:blipFill>
          <a:blip r:embed="rId1"/>
          <a:stretch/>
        </p:blipFill>
        <p:spPr>
          <a:xfrm>
            <a:off x="228600" y="1828800"/>
            <a:ext cx="5943600" cy="40035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1223280" y="533520"/>
            <a:ext cx="38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розд рябин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375200" y="609480"/>
            <a:ext cx="33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вчий дроз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D:\ira\презентации\певчий дрозд.jpg"/>
          <p:cNvPicPr/>
          <p:nvPr/>
        </p:nvPicPr>
        <p:blipFill>
          <a:blip r:embed="rId1"/>
          <a:stretch/>
        </p:blipFill>
        <p:spPr>
          <a:xfrm>
            <a:off x="457200" y="1803240"/>
            <a:ext cx="5943600" cy="46324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304920" y="7467480"/>
            <a:ext cx="6324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вчий дрозд размером несколько больше сквор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ение пестрое: верх буровато-серый, а низ - желтовато-бурый с темными пятнами; перья под крылом желтовато-охристые. Молодые окрашены тоже пестро, верх у них в светлых ржавых пят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ет в смешанных и лиственных лесах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адлежит к группе перелетных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28600" y="655308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соловей - небольшая, немногим более воробья,  птичка. Окраска ее невзрачная: спина, крылья и хвост буровато-серые,  низ оперения - белесый с лег-ким серовато-охристым оттенком,  клюв и ноги бур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овей обитает в густых тенистых кустарниках лиственного и смешанного леса, в парках недалеко от воды или в сырых местах. Эта птица осторожная, пугливая. Известна своим мелодичным п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соловей - птица перелетная, зимует на юге Восточной Аф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D:\ira\презентации\соловей.jpg"/>
          <p:cNvPicPr/>
          <p:nvPr/>
        </p:nvPicPr>
        <p:blipFill>
          <a:blip r:embed="rId1"/>
          <a:stretch/>
        </p:blipFill>
        <p:spPr>
          <a:xfrm>
            <a:off x="1828800" y="990720"/>
            <a:ext cx="3992400" cy="5576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61760" y="228600"/>
            <a:ext cx="53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ыкновенный солов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596160" y="423720"/>
            <a:ext cx="55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тоголовый корол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D:\ira\презентации\королек.jpg"/>
          <p:cNvPicPr/>
          <p:nvPr/>
        </p:nvPicPr>
        <p:blipFill>
          <a:blip r:embed="rId1"/>
          <a:stretch/>
        </p:blipFill>
        <p:spPr>
          <a:xfrm>
            <a:off x="1143000" y="1676520"/>
            <a:ext cx="4648320" cy="4351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228600" y="647712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тоголовый королек - самая маленькая птица наших лесов.  Внешний вид королька настолько характерен, что узнать его в природе несложно.  На верхней части головки самки широкая желтая, а у самца оранжево-желтая полоса. Спина имеет зеленовато-оливковый цвет,  а брюшко - серовато-бурый. На крыльях хорошо заметны беловатые поперечные полоски. Желтоголовый королек широко распространен на земном шаре; он населяет хвойные и смешанные леса Европы, Азии и Северной Америки. Эта птица оседл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:\ira\презентации\мухоловка.jpg"/>
          <p:cNvPicPr/>
          <p:nvPr/>
        </p:nvPicPr>
        <p:blipFill>
          <a:blip r:embed="rId1"/>
          <a:stretch/>
        </p:blipFill>
        <p:spPr>
          <a:xfrm>
            <a:off x="762120" y="1066680"/>
            <a:ext cx="4663800" cy="58975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28600" y="701028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холовка-пеструшка несколько меньше вороб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раска оперения у самца контрастная, черно-бел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нная сторона тела черная, на лбу белое пят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вост буровато-черный с белой каемкой по кра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юшная сторона белая. Крыло темно-бурое с больш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ым пятном. Самка окрашена более тускло: черные т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перении замещены серовато-буры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ет в высокоствольных смешанных и ли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ах, парках и са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4240" y="304920"/>
            <a:ext cx="52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ухоловка-пестр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:\ira\презентации\зяблик.jpg"/>
          <p:cNvPicPr/>
          <p:nvPr/>
        </p:nvPicPr>
        <p:blipFill>
          <a:blip r:embed="rId1"/>
          <a:stretch/>
        </p:blipFill>
        <p:spPr>
          <a:xfrm>
            <a:off x="304920" y="1600200"/>
            <a:ext cx="6324480" cy="4905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304920" y="70866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яблик - одна из широко распространенных в нашей стране птиц. У самца оперение спинки серо-бурого цвета, надхвостье зеленоватое;  низ и щеки - темно-коричневые; голова и клюв - голубовато-серые. На лбу есть черное пятно, а на крыле оно белое. В окраске оперения самки преобладают серовато-бурые т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итает в разнообразных лесах, нередко поселяется в парках, городских скве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363760" y="457200"/>
            <a:ext cx="18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ябл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678680" y="457200"/>
            <a:ext cx="40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льшая си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D:\ira\презентации\большая.jpg"/>
          <p:cNvPicPr/>
          <p:nvPr/>
        </p:nvPicPr>
        <p:blipFill>
          <a:blip r:embed="rId1"/>
          <a:stretch/>
        </p:blipFill>
        <p:spPr>
          <a:xfrm>
            <a:off x="380880" y="1523880"/>
            <a:ext cx="5791320" cy="43848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304920" y="647712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я синица - самая крупная синица нашей стра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ом она примерно с воробья и имеет довольно яркое оперение. Голова, горло, полоса вдоль груди и подхвостье черные, крылья и хвост голубоватые, спинка желто-зеленая или голубовато-серая, брюшко чаще желтое, а щеки и пятно на затылке белые. Большая синица широко распространена в смешанных и листвен-ных лесах, парках и садах. Отличается чрезвычайной подвижностью и ловк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синица - птица оседлая, кочует лишь мес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D:\ira\презентации\лесной конек.jpg"/>
          <p:cNvPicPr/>
          <p:nvPr/>
        </p:nvPicPr>
        <p:blipFill>
          <a:blip r:embed="rId1"/>
          <a:stretch/>
        </p:blipFill>
        <p:spPr>
          <a:xfrm>
            <a:off x="380880" y="1219320"/>
            <a:ext cx="6019920" cy="4249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1602720" y="380880"/>
            <a:ext cx="323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сной кон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85840" y="5943600"/>
            <a:ext cx="657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ной конек размером с воробья. Верхняя часть тела у обоих полов одинаковая, песочно-бурого цвета с черными продольными пестринами. На нижней части тела, груди есть широкие черные пестрины; хвост темно-бурый, лишь его крайние перья имеют белые пятна. Клюв у этой птицы тонкий, на конце заостренный, ноги тоже тонкие, хорошо приспособленные к бегонию по земле. Птица перелет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ной конек обитает в лиственных и смешанных лес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зде предпочитает разреженные участки, опушки, вырубки, лесные поляны. На гнездовье прилетает в конце весны и сразу дает о себе знать пением. Во время пения самцы взлетают в воздух и, описав крутую дугу, снова садятся на куст, дерево, или зем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D:\ira\презентации\валь.jpg"/>
          <p:cNvPicPr/>
          <p:nvPr/>
        </p:nvPicPr>
        <p:blipFill>
          <a:blip r:embed="rId1"/>
          <a:stretch/>
        </p:blipFill>
        <p:spPr>
          <a:xfrm>
            <a:off x="457200" y="1905120"/>
            <a:ext cx="6172200" cy="38592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228600" y="6629400"/>
            <a:ext cx="6629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ной кулик, размером с голубя. У него очень длинный клюв, относительно крупные глаза смещены к затылку. Оперение верха рыжевато-ржавое с темными и светлы-ми пестринами, низ серый с поперечным рисунком. Населяет густые, смешанные и лиственные леса с кустарниковым подседом, вблизи болот, ручьев. Птица перелетная. В среднюю полосу России вальдшнеп прилетает в начале весны и поселяется в сырых местах смешанного и лиственного леса с густым подростом. Привлекает внимание своим токовым полетом, называемым «тяго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982880" y="609480"/>
            <a:ext cx="281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льдшне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D:\ira\презентации\дятел1.jpg"/>
          <p:cNvPicPr/>
          <p:nvPr/>
        </p:nvPicPr>
        <p:blipFill>
          <a:blip r:embed="rId1"/>
          <a:stretch/>
        </p:blipFill>
        <p:spPr>
          <a:xfrm>
            <a:off x="1676520" y="1219320"/>
            <a:ext cx="3354120" cy="44114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215640" y="195120"/>
            <a:ext cx="58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льшой пестрый дят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28600" y="5943600"/>
            <a:ext cx="6400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й пестрый дятел отличается от других пестрой окраской оперения. Верхняя часть тела черная, а низ бе-лый с охристым оттенком. Темя и затылок у самок чер-ные, а у самцов на затылке красное пятно. На крыльях много белых пятен. Птица оседлая, а местами кочующ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й пестрый дятел населяет различные типы леса, предпочитая хвойные и смешанные леса. Обычен в парках и садах. Ранней весной у этого дятла отмечаются первые токовые явления: чаще раздаются «барабанные» тре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дары клювом по сухому сучку. Весной большой пестрый дятел пьет сок березы, продалбливая малень-кие дырочки в коре и располагая их кольцами. Поэтому справедливо говорят, что дятел «кольцует» берез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28600" y="716292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на, или черный дятел - самый крупный дятел, размером примерно с ворону. Окрашен в однообразный черный цвет. У самца на голове темно-красная шапочка, у самки красный только затылок. Молодые птицы окрашены тускло с буроватым оттенком. Клюв у этого дятла большой, долотовидный, желто-серого цвета. Черный дятел пред-почитает обитать в старых высокоствольных смешанных лесах, часто придерживается ельников и сосновых б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59720" y="457200"/>
            <a:ext cx="60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на, или черный дят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D:\ira\презентации\дятел2.jpg"/>
          <p:cNvPicPr/>
          <p:nvPr/>
        </p:nvPicPr>
        <p:blipFill>
          <a:blip r:embed="rId1"/>
          <a:stretch/>
        </p:blipFill>
        <p:spPr>
          <a:xfrm>
            <a:off x="1447920" y="1295280"/>
            <a:ext cx="4111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D:\ira\презентации\кукушка.jpg"/>
          <p:cNvPicPr/>
          <p:nvPr/>
        </p:nvPicPr>
        <p:blipFill>
          <a:blip r:embed="rId1"/>
          <a:stretch/>
        </p:blipFill>
        <p:spPr>
          <a:xfrm>
            <a:off x="228600" y="838080"/>
            <a:ext cx="6629400" cy="48564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304920" y="5715000"/>
            <a:ext cx="6324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ая кукушка размером с галку. У нее длин-ный хвост и заостренные крылья. У самца спина темно-серая, а низ белый с поперечными полосами; на хвосте белые пятна. Окраска оперения самки рыжевато-бурая. Во время кукования самцы принимают своеобразную позу: крылья опускают несколько вниз, а хвост поднима-ют кверху. Обитает в смешанных и лиственных лесах, лесостепи и даже степи. Не вьет гнезда,  не насиживает яиц и не выкармливает своих птенцов. За нее это дела-ют другие, в основном мелкие певчие птицы. Поэтому у кукушки одна забота - найти гнезда этих птиц и отложить в них свое яйцо. В этом ей помогает самец, который своим обликом походит на хищную птицу ястреба-перепелятн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59720" y="304920"/>
            <a:ext cx="55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ыкновенная кук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D:\ira\презентации\бекут.jpg"/>
          <p:cNvPicPr/>
          <p:nvPr/>
        </p:nvPicPr>
        <p:blipFill>
          <a:blip r:embed="rId1"/>
          <a:stretch/>
        </p:blipFill>
        <p:spPr>
          <a:xfrm>
            <a:off x="2286000" y="380880"/>
            <a:ext cx="3530520" cy="63867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228600" y="693432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ел-беркут очень крупная лесная птица, размах крыльев 2 м, а масса тела от 2,5 до 4кг. Окраска птицы темно-коричневая, голова и шея светлее, на затылке золотисто-желтые перья, низ - светло коричневый, а хвост с черноватой вершиной. Ноги оперены до самых пальцев; на заднем пальце огромный острый коготь, длиной 5 см. Маховые перья в полете расставлены как пальцы. живет в глухих участках высокоствольного леса, вблизи открытых пространств, необходимых для охо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534960" y="457200"/>
            <a:ext cx="30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ел-берк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28600" y="5943600"/>
            <a:ext cx="6400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ол-сапсан размером с грача, верх его темный, а низ светлый с тонким поперечным слегка волнистым рисун-ком, хорошо заметным на боках и подхвостье. На груди каплевидные пестрины. От глаза книзу идет темно-бурая полоса. Лапы ярко-желтые. В полете видны длинные острые крылья и сравнительно короткий узкий хвост. Поселяется в густых малодоступных местах леса, но всегда вблизи от больших открытых пространств, так как способ его охоты требует простора. Охотится этот сокол за птицей, которую бьет на ле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ол-сапсан везде очень редок, поэтому он подлежит всемерной охране как памятник природы, как воплоще-ние силы, смелости и крас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449000" y="311040"/>
            <a:ext cx="33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кол-сапс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D:\ira\презентации\сапасан.jpg"/>
          <p:cNvPicPr/>
          <p:nvPr/>
        </p:nvPicPr>
        <p:blipFill>
          <a:blip r:embed="rId1"/>
          <a:stretch/>
        </p:blipFill>
        <p:spPr>
          <a:xfrm>
            <a:off x="838080" y="1295280"/>
            <a:ext cx="502920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D:\ira\презентации\сычик.jpg"/>
          <p:cNvPicPr/>
          <p:nvPr/>
        </p:nvPicPr>
        <p:blipFill>
          <a:blip r:embed="rId1"/>
          <a:stretch/>
        </p:blipFill>
        <p:spPr>
          <a:xfrm>
            <a:off x="914400" y="1295280"/>
            <a:ext cx="5029200" cy="45244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228600" y="5943600"/>
            <a:ext cx="6324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бьиный сычик - самая маленькая сова, живущая в нашей стране. Размах ее крыльев  40 см, а масса около 60-80 г. На круглой голове «ушек» нет. Во время полета видны широкие крылья и довольно короткий хвост. Окраска верхней стороны тела темно-бурая с мелкими белыми пятнами. Низ тела белый с бурыми продольны-ми пестринами. Обитает в высокоствольных хвойных лесах, охотно селится в глухом ельнике. Способы охоты у этих птиц своеобразны: они поджидают жертву, сидя на присаде, и в случае ее появления ловко бросаются на нее и быстро настигают. Еще одна характерная особенность - зимой он делает кормовые запасы, помещая их в дуп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371600" y="463680"/>
            <a:ext cx="42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робьиный сы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D:\ira\презентации\филин.jpg"/>
          <p:cNvPicPr/>
          <p:nvPr/>
        </p:nvPicPr>
        <p:blipFill>
          <a:blip r:embed="rId1"/>
          <a:stretch/>
        </p:blipFill>
        <p:spPr>
          <a:xfrm>
            <a:off x="1371600" y="838080"/>
            <a:ext cx="3040200" cy="50072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228600" y="6172200"/>
            <a:ext cx="66294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 из крупных сов; размах крыльев этой птицы 1,5 м,  масса 2-3 кг. Большая голова филина снабжена ушами и торчащими пучками перьев. Оранжево-красные глаза направлены вперед и способны видеть в темноте. Окраска оперения спины темно-бурая с темными полосами; грудь и брюхо рыжие с продольными пестринами. Полет бесшум-ный благодаря рыхлому и мягкому оперению. Обитает филин в старых высокоствольных лесах, вблизи болот, оврагов. Его присутствие можно обнаружить по своеобраз-ному крику, прерываемому диким хохотом. Филины, как все совы, активны в сумерки и ночью. В это время они охотятся на мелких птиц и звере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12400" y="22860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л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28600" y="6019920"/>
            <a:ext cx="64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треб-тетеревятник - лесная хищная птица. размером более вороны, самки крупнее самцов. В окраске взрос-лых преобладают серые тона с темными поперечными полосами. У самца спина серовато-бурая, а брюхо бело-ватое с бурыми поперечными полосами; хвост бурый с темными поперечными полосами. Самка окрашена несколько темнее. Молодые птицы сверху бурые, а снизу рыжевато-охристые с темными продольными пятнами. Гнездится на деревьях в хвойных, лиственных и смешанных лесах. Тетеревятник ловит не только мелких животных (дроздов, дятлов, соек), но и крупных уток, тетеревов, зайцев, домашних к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15840" y="380880"/>
            <a:ext cx="50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стреб-тетеревят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D:\ira\презентации\ястреб.jpg"/>
          <p:cNvPicPr/>
          <p:nvPr/>
        </p:nvPicPr>
        <p:blipFill>
          <a:blip r:embed="rId1"/>
          <a:stretch/>
        </p:blipFill>
        <p:spPr>
          <a:xfrm>
            <a:off x="914400" y="1523880"/>
            <a:ext cx="5035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135520" y="38088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ско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D:\ira\презентации\московка.jpg"/>
          <p:cNvPicPr/>
          <p:nvPr/>
        </p:nvPicPr>
        <p:blipFill>
          <a:blip r:embed="rId1"/>
          <a:stretch/>
        </p:blipFill>
        <p:spPr>
          <a:xfrm>
            <a:off x="380880" y="1752480"/>
            <a:ext cx="5502240" cy="4695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28600" y="7467480"/>
            <a:ext cx="6400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овка - самая маленькая синица, весит всего лишь 9 грамм. Головка черная с белыми щечками; верх голубо-вато-серый. На крыле хорошо видны белые пятна. На горле большое черное пятно. Низ синевато-серый с бурым налетом. Московка предпочитает жить в еловых лесах. В южных местах оседлая или частично кочующая птица, а в северных - перелет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824760" y="500040"/>
            <a:ext cx="54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линнохвостая си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D:\ira\презентации\длиннохвостая.jpg"/>
          <p:cNvPicPr/>
          <p:nvPr/>
        </p:nvPicPr>
        <p:blipFill>
          <a:blip r:embed="rId1"/>
          <a:stretch/>
        </p:blipFill>
        <p:spPr>
          <a:xfrm>
            <a:off x="609480" y="2209680"/>
            <a:ext cx="6019920" cy="3789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228600" y="723888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нохвостая синица - одна из мелких толстоклювых синиц, весит 8-9 г. Оперение ее очень пушистое, издали птичка кажется  шариком с длинных хвостом. Напоминает она разливательную ложку,  поэтому народное название этой синички - ополовник. В ее окраске сочетается белый цвет (голова, шея, нижняя часть тела), черный (спина и крылья) и розовато-белый (бока и крылья). Птица оседлая, местами кочует. Живет в лиственных и смешанных лес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228600" y="7543800"/>
            <a:ext cx="6400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поползень размером с воробья. Окраска спинной стороны тела голубовато-серая, брюшной -белая с примесью рыжеватых тонов. От клюва к затылку проходит черная полоса. На хвосте есть белые пятна.  Живет в хвойных и смешанных лесах. Это единственная птица, способная передвигаться по стволу вниз гол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ица оседлая и частично кочующ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09600" y="533520"/>
            <a:ext cx="63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ыкновенный пополз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D:\ira\презентации\поползень.jpg"/>
          <p:cNvPicPr/>
          <p:nvPr/>
        </p:nvPicPr>
        <p:blipFill>
          <a:blip r:embed="rId1"/>
          <a:stretch/>
        </p:blipFill>
        <p:spPr>
          <a:xfrm>
            <a:off x="1066680" y="1371600"/>
            <a:ext cx="4505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744280" y="38088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D:\ira\презентации\чиж.jpg"/>
          <p:cNvPicPr/>
          <p:nvPr/>
        </p:nvPicPr>
        <p:blipFill>
          <a:blip r:embed="rId1"/>
          <a:stretch/>
        </p:blipFill>
        <p:spPr>
          <a:xfrm>
            <a:off x="533520" y="1143000"/>
            <a:ext cx="5790960" cy="4660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228600" y="701028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ж размером несколько меньше воробья. Общая окраска оперения зеленовато-желтая,  сверху темная, а снизу светлая; по всему телу много пестрин. У самца черные «шапочка» и подбородок. Оперение самки серовато-бурое с темными пестринами. Клюв короткий конической 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итает в еловых лесах с примесью березы, ольхи и других лиственных деревьев. Во время полета издает призывный крик, звучащий примерно так «чи-жик, чи-жи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кочующая и частично перелетная пт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ira\презентации\клест.jpg"/>
          <p:cNvPicPr/>
          <p:nvPr/>
        </p:nvPicPr>
        <p:blipFill>
          <a:blip r:embed="rId1"/>
          <a:stretch/>
        </p:blipFill>
        <p:spPr>
          <a:xfrm>
            <a:off x="685800" y="1219320"/>
            <a:ext cx="5638680" cy="5019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2287080" y="304920"/>
            <a:ext cx="148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е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04920" y="716292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ест-еловик величиной немногим больше воробья. В оперении самца преобладают коричнево-красные тона, а у самки - зеленый цвет. Молодые птицы зеленовато-серые. Клюв у клеста перекрещенный. Ноги сильные с цепкими когтями. Обитает в хвойных и смешанных лесах, предпочитая еловые. Особенность клеста в том, что он выводит птенцов не только весной, но и зи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ет кочующий образ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059560" y="380880"/>
            <a:ext cx="20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неги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D:\ira\презентации\снегирь.jpg"/>
          <p:cNvPicPr/>
          <p:nvPr/>
        </p:nvPicPr>
        <p:blipFill>
          <a:blip r:embed="rId1"/>
          <a:stretch/>
        </p:blipFill>
        <p:spPr>
          <a:xfrm>
            <a:off x="533520" y="1676520"/>
            <a:ext cx="5548320" cy="44272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228600" y="678168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егирь размером немногим больше воробья. Окраска оперения очень красивая. Нижняя часть тела самцов кирпично-розовая, спина - пепельно-серая; верх головы, крылья и хвост блестяще-черный. У самок красный цвет замещен буровато-серым. Снегирь- обитатель таежных лесов, но во время гнездовий иногда встречается в смешанных лесах. Зимой снегирь кочует, однако часть птиц остается на местах гнездовий. В начале зимы снегири в большом количестве появляются в централь-ных областях нашей страны, в ее городах и сел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:\ira\презентации\иволга.jpg"/>
          <p:cNvPicPr/>
          <p:nvPr/>
        </p:nvPicPr>
        <p:blipFill>
          <a:blip r:embed="rId1"/>
          <a:stretch/>
        </p:blipFill>
        <p:spPr>
          <a:xfrm>
            <a:off x="609480" y="1752480"/>
            <a:ext cx="5791320" cy="46785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2287440" y="38088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вол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28600" y="7086600"/>
            <a:ext cx="6400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олга - одна из красивейших лесных птиц, размером несколько крупнее скворца. Оперение самца ярко-жел-тое, крылья и хвост - черные. Самка окрашена более тускло - сверху она зеленовато-серая, а низ ее желтова-то-белый, с редкими продольными бурыми пестрин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е прение напоминает звук флейты. Иволга обитает в широколиственных и смешанных лесах, рощах, парках, везде очень скрытна,  держится в густой кроне деревьев. Птица перелетн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5:53:56Z</dcterms:created>
  <dc:creator>204c</dc:creator>
  <dc:description/>
  <dc:language>en-US</dc:language>
  <cp:lastModifiedBy>ОЕМ</cp:lastModifiedBy>
  <dcterms:modified xsi:type="dcterms:W3CDTF">2010-01-19T03:22:55Z</dcterms:modified>
  <cp:revision>10</cp:revision>
  <dc:subject/>
  <dc:title>Заголовок слайда отсутствует</dc:title>
</cp:coreProperties>
</file>